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F8FA-C29D-45C2-811C-1238B19F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2A1E-AC77-4175-AC9E-59ED8F51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8D34-F83E-4CBA-80E6-FDD5384A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B9F-873D-48D8-B3C0-12D118FB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E7AC-68C4-4DC0-9C0D-4D67875E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CE4E-5DF1-4743-AFCF-E6A87DEE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AEA0-3E47-4566-B40C-D9682A6B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54BF-6E19-4404-9715-B83AB8EF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C105-CC78-4E72-BDB7-F4A73DFC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17CF-3D73-449B-94F7-9D1FE024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B706-D2EC-4C6E-A5BC-633910DB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1EDF-44FB-4388-BEC4-4E91D048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2470-55F8-4A29-8CC0-6B7134A1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BE0D-7CC2-48D9-8379-8BA65198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B098-F567-4840-B913-1DA4ECF7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D5C1-AF60-445E-BA2D-D744A6AC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EEB3-854C-454D-8B29-A9CF4E06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49BE-7B76-46AD-B600-3360614A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110D-4811-4CE7-B8D0-9AEC9E60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FC05-B769-4B76-8B2F-12DFDCA2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1F6F-52D5-4AFB-B322-5C7B2AEF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F3C2-AD83-4A64-8A0D-C91EC944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8B33-9051-4889-B866-61C580E9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DE2D-F96C-4D8A-8077-0FFF48F2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DD08-E8B9-4377-AC13-0361F15180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12E6-825C-4991-B38B-21C6A95E6E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Intermediate 2 P.E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kills and Technique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N.A.B part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24360" y="4508640"/>
            <a:ext cx="1106280" cy="181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kills and Techniques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N.A.B part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.A.B part 2: 2 questions (5 marks ea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ate: Monday 7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Septemb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omework: Study for NAB part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Period Starter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at process did you follow to gather information on your performa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2. Define each of the follow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pen skill / closed skill / simple skill / complex sk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3. Choose 1 method of practise and describe a practise that would help to improve your weak ski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kills and techniques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odel Perform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Key concept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: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kill and skilled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Key Featur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: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odel perfor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 player who can execute a skill with maximum ef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kills and Techniques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odel perform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acher / c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ass m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fessional perfor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03280" y="4508640"/>
            <a:ext cx="709560" cy="1779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344600" cy="1801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932360" y="4653000"/>
            <a:ext cx="1152360" cy="1606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2771640" y="4653000"/>
            <a:ext cx="1513080" cy="184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kills and techniques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odel Perform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Character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kills are carried out fluently, controlled with minimum eff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ask 1: Discuss with a partner 3 more characteristics of a model performer (add these to your not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kills and techniques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odel Perform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ives a mental picture of the skill you are trying to impr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otivates you to become a better p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t helps to determine training priorities by comparing perform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an study the fine detail of a skill by breaking it down into P.A.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kills and techniques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tages of lear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Key Concept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: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development of skills and the refinement of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Key Featur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: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tages of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3 Stag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ognitive s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ssociative s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utonomous s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kills and Techniques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tages of lear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Cognitive / preparation s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rying to establish what the skill invo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rrors are comm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You need advice and encour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t this stage you wil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et a mental picture of the 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hadow the correct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ompare your performance with model perfor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kills and Techniques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Stages of lear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ethods of practise us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hadow practi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epetition without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ask 3: Write down the same information for the next 2 stages of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(5mi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3:22:56Z</dcterms:created>
  <dc:creator>Carrie</dc:creator>
  <dc:description/>
  <dc:language>en-US</dc:language>
  <cp:lastModifiedBy>FlemingC1</cp:lastModifiedBy>
  <dcterms:modified xsi:type="dcterms:W3CDTF">2009-08-31T09:28:27Z</dcterms:modified>
  <cp:revision>5</cp:revision>
  <dc:subject/>
  <dc:title>S3 Intermediate P.E  Skills and Techniques</dc:title>
</cp:coreProperties>
</file>